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9A4-7BBA-4360-A4B5-3A4F4CE6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2FF-60C7-4096-AB51-D65364D8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90B-AD7C-417A-9FAF-CEB22816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031-D847-44EC-9002-95A679B5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D6C7-56B1-49D4-9B92-29550BFD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9324-64A4-40EB-BDAB-416CE82F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4A8C-30F0-442E-A318-6F2440DB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68F3-278F-4E6B-8D2D-E0AE8B9F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5E34-731E-4A86-964D-B41C396B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9EC5-BEDF-42A4-9254-EFCB4FF9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8A8B-942B-449B-B556-AEDF02B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C7B-8A0A-43A6-80FC-F97D8BDC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5572-FA6E-4201-8A01-97C31C06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8106-9687-4285-A4F7-1698B4F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DFD4-9A05-4A75-BBAC-7AE9562D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77D5-D7F1-4106-91DC-1B894EEA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76FF-5D72-4371-8F33-C90BA792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6B5-F939-4BA6-B245-A2F4625B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130-AD88-424C-AF7A-0C45A88B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1A9-E9FF-4B45-B89C-343735C0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1F2-4153-48B5-BD10-BCD812CF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C83-9DB4-4DD3-AC2D-E35690F1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961-D51A-449D-BCB9-E89800BF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289-B7D9-4280-AD49-BCFBE33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A017-14E4-4DF8-8638-11CEC66CF7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95B6-3758-4044-A103-9474716B24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Занятные стайки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простых чисел</a:t>
            </a:r>
            <a:br>
              <a:rPr sz="6000"/>
            </a:br>
            <a:br>
              <a:rPr sz="4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619280" y="981000"/>
          <a:ext cx="6121440" cy="4202280"/>
        </p:xfrm>
        <a:graphic>
          <a:graphicData uri="http://schemas.openxmlformats.org/drawingml/2006/table">
            <a:tbl>
              <a:tblPr/>
              <a:tblGrid>
                <a:gridCol w="2041560"/>
                <a:gridCol w="2038320"/>
                <a:gridCol w="2041560"/>
              </a:tblGrid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68360" y="1125360"/>
          <a:ext cx="4824720" cy="3745080"/>
        </p:xfrm>
        <a:graphic>
          <a:graphicData uri="http://schemas.openxmlformats.org/drawingml/2006/table">
            <a:tbl>
              <a:tblPr/>
              <a:tblGrid>
                <a:gridCol w="1608480"/>
                <a:gridCol w="1608120"/>
                <a:gridCol w="1608120"/>
              </a:tblGrid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340000" y="1197000"/>
          <a:ext cx="4537080" cy="3960720"/>
        </p:xfrm>
        <a:graphic>
          <a:graphicData uri="http://schemas.openxmlformats.org/drawingml/2006/table">
            <a:tbl>
              <a:tblPr/>
              <a:tblGrid>
                <a:gridCol w="1513080"/>
                <a:gridCol w="1511280"/>
                <a:gridCol w="1512720"/>
              </a:tblGrid>
              <a:tr h="13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Monotype Corsiva"/>
              </a:rPr>
              <a:t>Цель 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Исследование некоторых свойств простых чисе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99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хождение простых чисел, способных разместиться в магическом квадрат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свойств арифметической прогресс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хождение простых чисел образующих арифметическую прогресс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палиндромические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–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каждое равно обращённому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1,101, 131, 151, 181, 191, 313, 353, 373, 383, 727, 757, 787, 797, 919, 92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симметричны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7 – 701, 113 – 311, 149 – 941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7 – 751, 167 – 761, 179 – 971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 -991,   337- 733,  347 – 743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59 – 953,  389 – 983, 709 – 907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39 -937,  769 - 96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42920" y="1044360"/>
            <a:ext cx="72741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Арифметическая прогрессия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– последовательнос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каждый член котор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(начиная со второг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авен предыдущем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ложенному с одним и тем же числ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Это число называ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азностью арифметической прогрессии  (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рогрессия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, 3.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69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69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Прогрессия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, 5, 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ecff"/>
                </a:solidFill>
                <a:latin typeface="Arial"/>
              </a:rPr>
              <a:t>Если три простых числа образуют арифметическую прогрессию, то её разность кратна шести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, р +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   р › 3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р простое, тогда оно нечётн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ечетное, значит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четное, что невозможно, так как оно простое. Значит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чётн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е делится на три, то из чисел р, р +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есть делящееся на три, что невозмож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татки от деления чисел на три – это 1 или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)Пусть при делени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 три остаток равен единиц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Если при делени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 три остаток равен два, то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елится на тр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 Если при делени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 три остаток равен единице, то при делении 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три остаток равен двум, значит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елится на тр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)Пусть при делени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 три остаток равен дву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Если при делени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 три остаток равен двум, то при делении 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 три остаток равен 4. При делении 4 на три остаток равен 1, значит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елится на тр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Если при делени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 три остаток равен единице, то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елится на тр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58:45Z</dcterms:created>
  <dc:creator>user11</dc:creator>
  <dc:description/>
  <dc:language>en-US</dc:language>
  <cp:lastModifiedBy>Любовь Флерко </cp:lastModifiedBy>
  <dcterms:modified xsi:type="dcterms:W3CDTF">2008-03-24T13:52:51Z</dcterms:modified>
  <cp:revision>3</cp:revision>
  <dc:subject/>
  <dc:title>Занятные стайки простых чисел    </dc:title>
</cp:coreProperties>
</file>